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1A7-1F5E-482F-A0E2-CA905171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5DB-F768-46E2-9255-E1AFB2DE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223-2719-43DF-A57F-BA597D2B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7DC-0FE7-49F3-AC5E-5830C625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545D-70EF-4D12-BCC3-30224EFA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96A6-B2F6-4EF5-8A93-D70A6FFD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810E-E8BD-44C3-A94D-93812F72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0715-788F-4C13-BD65-D1A01397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7CB3-C5EA-4B9B-84A6-DFC7D8B6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7DEA-213F-4399-AB45-F0986806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E403-049A-45CF-BB5B-9236515B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88E-2289-417F-9951-948E2FB7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48AC-61F9-42EB-8BD7-46ED8DBD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0955-D3B4-4490-AB3E-29C9D54B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6D11-4DBF-4A76-A239-D1F5459F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C307-A9AF-43D5-824F-0090053F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83C9-4353-4229-BB41-0F7C9CB2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597-F291-4C8F-A64D-3F63E5C2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734A-6BC9-4CC2-AD03-BAAD9E60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240-7F6C-4135-9782-B2544C7D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9401-2967-4E02-8209-E3D95C90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81B-03B0-4F69-B570-9E693A9C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3FED-1E77-4988-920A-CE544952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903-CB98-4103-8913-CEF7E306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EDFE-D372-46A9-907C-5723A8097B1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2ec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ef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2ec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2ec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2ec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eef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eef8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2eced2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60FB-544B-4222-9B97-C8E4A095E55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2ec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2ec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2eced2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elcome to Parent Nigh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rs. Bloedorn &amp; Mrs. Bradl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Jokerman LET"/>
              </a:rPr>
              <a:t>General Informatio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ation chang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 made in writ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note/doctor’s excuse needs to be returned to school within 3 days of an absence, otherwise it will be marked unexcus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r child eats breakfast, please be sure to talk to them about the importance of getting to class on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dff"/>
                </a:solidFill>
                <a:latin typeface="Jokerman LET"/>
              </a:rPr>
              <a:t>Daily Schedul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09320" y="1676520"/>
            <a:ext cx="4496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:05-9:05- Guided Reading Grou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:05-9:15- Restroom Brea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:15-9:30- AMa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:35-10:15- Specia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:20-10:30- Sn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:30-11:00- Calend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:00-11:20- Language Ar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:20-11:50- Re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:55-12:25- Lun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:25-12:35- Restroom Brea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:40-1:15- 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:15-1:50- Ma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:50-2:20- Social Studies/Scie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:20-2:30- Pack up/Teacher Read Alou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:30-Dismiss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dff"/>
                </a:solidFill>
                <a:latin typeface="Jokerman LET"/>
              </a:rPr>
              <a:t>Special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day- P.E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ppropriate sho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uesday- Computer Lab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eadphon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dnesday- Mus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rsday- 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iday- Libr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dff"/>
                </a:solidFill>
                <a:latin typeface="Jokerman LET"/>
              </a:rPr>
              <a:t>Morning</a:t>
            </a:r>
            <a:br>
              <a:rPr sz="5400"/>
            </a:br>
            <a:r>
              <a:rPr b="0" lang="en-US" sz="5400" spc="-1" strike="noStrike">
                <a:solidFill>
                  <a:srgbClr val="703dff"/>
                </a:solidFill>
                <a:latin typeface="Jokerman LET"/>
              </a:rPr>
              <a:t>Procedures &amp; Routin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morning, students make their lunch choice and unpack their book ba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ter turning in their homework folder, and filling water bottles, the students find their reading group t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217800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Jokerman LET"/>
              </a:rPr>
              <a:t>Reading Group Focus Char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2120" y="2666880"/>
          <a:ext cx="7238880" cy="267516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  <a:gridCol w="1809720"/>
              </a:tblGrid>
              <a:tr h="127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Mrs. Bloedo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Mrs. Bradl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Mr. Far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eat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preh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ord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ord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elling Pract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ding Strategi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on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ekly skill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ord Wall pract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u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ord Wall Wo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</a:tbl>
          </a:graphicData>
        </a:graphic>
      </p:graphicFrame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Jokerman LET"/>
              </a:rPr>
              <a:t>Accelerated Reader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is AR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 is an individualized reading program to meet the needs of each student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do the students do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93040" indent="-397440">
              <a:spcBef>
                <a:spcPts val="3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ad their leveled AR book at home to an adult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93040" indent="-397440">
              <a:spcBef>
                <a:spcPts val="3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ve their card in the morning to take a tes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93040" indent="-397440">
              <a:spcBef>
                <a:spcPts val="3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ake a 5 or 10 question quiz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93040" indent="-397440">
              <a:spcBef>
                <a:spcPts val="3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et a new leveled book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w do the students meet their goals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Meet their individualized point goal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Average 85% or higher on their test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. Read 9 or more nonfiction books each grading period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. Reach their goal book level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parents can do to help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Read with your child every nigh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Ask you child questions about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24600" indent="-331200"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racter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24600" indent="-331200"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24600" indent="-331200"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24600" indent="-331200"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blems &amp; Solu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24600" indent="-331200"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k your child how they did on their tes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dff"/>
                </a:solidFill>
                <a:latin typeface="Jokerman LET"/>
              </a:rPr>
              <a:t>Accelerated Math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is AMath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Math is a computer-based, individualized math program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do the students do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Complete their math multiple choice math practice during clas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Turn in their orange AMath folder for grading.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.  A TOPS report will be printed and stapled to the top of their packet.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ACTICE or TEST will be highlighted at the top as well as their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rade.  This report will identify the problems missed and th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rrect answers.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. After successfully completing their practice the students will be able to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st out of those specific objective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w do students meet their goals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Meet their individualized objective goal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Average 80% or better on their tests.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parents can do to help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Go over missed problems at home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Ask your child if they completed their AMath assignment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. Ask you child to see their TOPS report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hecke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dff"/>
                </a:solidFill>
                <a:latin typeface="Jokerman LET"/>
              </a:rPr>
              <a:t>Disciplin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Expect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rded on homework log by coloring in smiley face with corresponding strip colo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Gree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4 laps around small court during play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Yello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8 laps around small cou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e home to be signed and return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12 laps around small cou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e home to be signed and return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dff"/>
                </a:solidFill>
                <a:latin typeface="Jokerman LET"/>
              </a:rPr>
              <a:t>Incentive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ents can earn class marbl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ents also have the opportunity to earn token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ents can earn stickers for a NO HOMEWORK PA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895480" y="3733920"/>
            <a:ext cx="3581640" cy="2685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18:01:59Z</dcterms:created>
  <dc:creator>Becki</dc:creator>
  <dc:description/>
  <dc:language>en-US</dc:language>
  <cp:lastModifiedBy>Becki</cp:lastModifiedBy>
  <dcterms:modified xsi:type="dcterms:W3CDTF">2007-09-11T02:05:33Z</dcterms:modified>
  <cp:revision>5</cp:revision>
  <dc:subject/>
  <dc:title>Welcome to Parent Night</dc:title>
</cp:coreProperties>
</file>